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7.wmf" ContentType="image/x-wmf"/>
  <Override PartName="/ppt/media/image30.jpeg" ContentType="image/jpeg"/>
  <Override PartName="/ppt/media/image9.jpeg" ContentType="image/jpeg"/>
  <Override PartName="/ppt/media/image10.wmf" ContentType="image/x-wmf"/>
  <Override PartName="/ppt/media/image31.gif" ContentType="image/gif"/>
  <Override PartName="/ppt/media/image17.wmf" ContentType="image/x-wmf"/>
  <Override PartName="/ppt/media/image29.jpeg" ContentType="image/jpeg"/>
  <Override PartName="/ppt/media/image3.wmf" ContentType="image/x-wmf"/>
  <Override PartName="/ppt/media/image26.wmf" ContentType="image/x-wmf"/>
  <Override PartName="/ppt/media/image23.jpeg" ContentType="image/jpeg"/>
  <Override PartName="/ppt/media/image25.wmf" ContentType="image/x-wmf"/>
  <Override PartName="/ppt/media/image21.jpeg" ContentType="image/jpeg"/>
  <Override PartName="/ppt/media/image2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22.jpeg" ContentType="image/jpeg"/>
  <Override PartName="/ppt/media/image16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9B267-51AD-4054-8BA8-E1C61226A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3DB64-2A7A-49D1-91E0-A4F33D83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D973B-88D4-4040-92BB-3FD99D68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CB744-7121-44AF-9ACE-557D4AB64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2010-FB8B-4759-BDE3-FA7610721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3A2A-865A-44BB-9C53-BF182ED4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155F-B111-4A69-B58B-8C0484C2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A408-AE58-4912-919E-B47FA83C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0341-D279-4440-8ADA-37A39D85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6412-26CF-424B-8828-70FD6AB5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44E0-8D5C-4738-9441-92A1AB05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45AB8-72C0-4728-AA92-A1B77478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DD51-124A-41F4-801C-4A6A3987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56C6-08CA-48E1-9876-5ABD42E4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54F8-793D-4247-A468-AAA82837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73A0-7DEB-4A5A-A3A3-42A1233B2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D24D-3490-40EA-BF2A-8AEC36D39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8A420-C00B-4E9B-8C42-A3CFCFF8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4A98F-0FD3-481D-A76A-70F7AA16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965E3-A7A2-4A9B-BE7A-DD0D62BD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BEECF-21E8-4A46-907D-91477FA3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49B58-ED22-42B9-9830-AF402A89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EEEC6-CC28-44E7-A9B9-9083B8AC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FD185-C273-4D8C-A546-24BC209C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74C8-344C-4662-81F5-1377436BA2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8866-B98B-425F-BF39-4FC111BB29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player.discoveryeducation.com/index.cfm?guidAssetId=8193B5EF-1E0C-4346-B4F3-ADA80CB35FB3&amp;blnFromSearch=1&amp;productcode=US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h. 6 Sports &amp; Conditioning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sson 1: Individual and Team Spor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8000" y="380880"/>
            <a:ext cx="2031840" cy="2273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9480" y="4572000"/>
            <a:ext cx="170676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orts &amp; Competition p. 15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st sports can be played on several levels: to increase your degree of fitness, to improve your skills, or with the goal of competi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Competition – rivalry between two or more individuals or groups trying to reach the same goa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en you play team sports competitively, your goal is to help your team win the gam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an individual competitive sport, your goal is to run faster, jump higher, and score more points than the other pers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324480" y="5410080"/>
            <a:ext cx="897120" cy="12369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971800" y="5334120"/>
            <a:ext cx="131760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Value of Competition Fig. 6.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. Competition gives you a reason to work hard, practice, and make your best effor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. Competition helps you develop mental focus, a skill that will be useful in other areas of your lif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. Competition allows you to learn the value of encouraging others and receiving their encouragem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. Competition offers you a chance to improve your skills and feel good about your accomplishmen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04920" y="5410080"/>
            <a:ext cx="2033640" cy="1276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048120" y="5334120"/>
            <a:ext cx="2057400" cy="1353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400800" y="5410080"/>
            <a:ext cx="120024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ide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Benefits of swimm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BELL ACTIV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Garamond"/>
              </a:rPr>
              <a:t>List as many different sports as you can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95280" y="4191120"/>
            <a:ext cx="1827360" cy="1504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010280" y="2743200"/>
            <a:ext cx="1781280" cy="1060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672000" y="2759040"/>
            <a:ext cx="1798560" cy="1338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781680" y="4419720"/>
            <a:ext cx="1738440" cy="1827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3657600" y="4648320"/>
            <a:ext cx="156996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pening Ques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hat role do sports play in a healthy lifestyle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ow can you choose which sports to play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hat are some benefits of competitio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9480" y="5105520"/>
            <a:ext cx="1825920" cy="1127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343400" y="4267080"/>
            <a:ext cx="353844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orts &amp; You p. 150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tart &amp; follow a well-thought-out exercise program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ne way to remain fit is to play sport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ome people play sports for fun, others make a serious commitmen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Garamond"/>
              </a:rPr>
              <a:t>Commitment – a pledge or promis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467480" y="5181480"/>
            <a:ext cx="1516320" cy="1516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120160" y="2438280"/>
            <a:ext cx="1023840" cy="2470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85800" y="5334120"/>
            <a:ext cx="1447920" cy="13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itment…. p. 150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volves dedicating yourself to something over a period of ti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you’re committed to a sport, you learn all you can about it, practice regularly, and work to develop the necessary skil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coming involved in sports can result in a lifetime of fitnes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nnis, golf, and swimming are good lifetime sports (for people of any ag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 rot="988800">
            <a:off x="7391520" y="5409720"/>
            <a:ext cx="1371600" cy="1184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12096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oosing Sports Activit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do you like about sport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ying fit? The excitement? Satisfaction of mastering a skill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’ll be most likely to get the greatest benefit out of a sport if you enjoy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781680" y="4343400"/>
            <a:ext cx="1825920" cy="1820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" y="4952880"/>
            <a:ext cx="1781280" cy="1376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733920" y="4495680"/>
            <a:ext cx="13129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dividual Spor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Individual sports are physical activities you can take part in by yourself or with a friend, without being part of a team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ik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ik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wimm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un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orseback rid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kateboard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rf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kat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00400" y="2438280"/>
            <a:ext cx="1971720" cy="1387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895480" y="4419720"/>
            <a:ext cx="1441440" cy="1909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477120" y="2438280"/>
            <a:ext cx="1920600" cy="1308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7315200" y="4343400"/>
            <a:ext cx="1279440" cy="1924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4876920" y="4343400"/>
            <a:ext cx="15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dividual Sports p. 15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ral advantag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 can set your own schedu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termine your level of commitm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 don’t have to be compared to anyone els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 can set the pace of the activit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 the other hand… You miss some of the social, mental, and emotional benefits of playing on a tea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772400" y="838080"/>
            <a:ext cx="1046160" cy="1447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80880" y="5562720"/>
            <a:ext cx="916200" cy="844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7315200" y="5257800"/>
            <a:ext cx="1095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eam Spor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Team Sports – organized physical activities with specific rules, played by opposing groups of peo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s: Baseball, basketball, football, soccer, and volleybal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y advantages: companionship and encouragement of teammates and coaches, playing against another team may push you to excel, keeping up with regularly scheduled practice can help you become more responsib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772400" y="228600"/>
            <a:ext cx="108108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2:54:26Z</dcterms:created>
  <dc:creator>GSCS</dc:creator>
  <dc:description/>
  <dc:language>en-US</dc:language>
  <cp:lastModifiedBy>GSCS</cp:lastModifiedBy>
  <dcterms:modified xsi:type="dcterms:W3CDTF">2010-11-08T13:34:38Z</dcterms:modified>
  <cp:revision>3</cp:revision>
  <dc:subject/>
  <dc:title>Ch. 6 Sports &amp; Conditioning</dc:title>
</cp:coreProperties>
</file>